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5040" y="-144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504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234D3D5-EA08-4291-ABFE-416145065E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062160" y="8840880"/>
            <a:ext cx="8740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D69ABFF-FB39-4734-89B4-2D8789268C7B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5840" y="7012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73399F0-4911-4AD1-850A-BE60011D8B3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3F2E48D-B3F7-4A82-8EE6-E3C0D16240E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C8B267D-2673-48BD-A018-3E4BC18662C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4B17B4F-282C-4D01-B0E6-217EE128F3F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072C9F5-23A5-4EFB-A816-7645BE574F5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C3371A6-BE69-440F-A832-5FBF52AFAC5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2901953C-E9CD-47D6-99A7-B72B66822D84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76BBA6A5-C978-4058-8E6C-D787B7134D22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60480" y="1631880"/>
            <a:ext cx="756756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9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Exercise 7:  The Baseline Checkbook Process</a:t>
            </a:r>
            <a:br>
              <a:rPr sz="3100"/>
            </a:b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2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exercise, you will be abl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checkbook process to balance a checkbo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 on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marize data for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Basic Checkbook Process: Elements 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l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scrip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lo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lo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type standar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plan summa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elements were described in lecture 3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Instru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17360" y="17348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fer to the checkbook process exercise workboo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ad through the checkbook process script. 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ke sure that you understand the entry and exit criteria and the requirements for each step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nsure that your workbook contains the following item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eckbook regist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ank stat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pies of checks written in the previous mont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TM transactions from the preceding month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the checkbook process to balance the checkboo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ke sure that all process forms are completed, including the time log, defect log, and plan summary form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092480" y="6087960"/>
            <a:ext cx="160884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9536b"/>
              </a:buClr>
              <a:buFont typeface="Arial"/>
              <a:buChar char=" 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45 minu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3605040" y="5737320"/>
            <a:ext cx="64944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building a basic understanding of your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id you do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uch time did you spend in all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was this time distributed among the phas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d you balance the checkbook on your first try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d you make any mistak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mistakes did you make and whe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 defects found during the compare balances step could have been found earli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 effort spent during the compare balances step could be considered rework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the total times for all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mbers of the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the compare balanc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+ fix times for defect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at were not removed i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are balances ste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use these ter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 working definition fo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ork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7518240" y="5384880"/>
            <a:ext cx="100332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7518240" y="3860640"/>
            <a:ext cx="100332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442040" y="2030400"/>
            <a:ext cx="2964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 =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X =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Rework % = 100 * X/T =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7518240" y="2336760"/>
            <a:ext cx="100332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584280" y="1498680"/>
            <a:ext cx="8140680" cy="499104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584280" y="2971800"/>
            <a:ext cx="81406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596880" y="4635360"/>
            <a:ext cx="81406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4381560" y="1511280"/>
            <a:ext cx="0" cy="49910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the defect summary for class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6" name="Picture 16" descr=""/>
          <p:cNvPicPr/>
          <p:nvPr/>
        </p:nvPicPr>
        <p:blipFill>
          <a:blip r:embed="rId1"/>
          <a:stretch/>
        </p:blipFill>
        <p:spPr>
          <a:xfrm>
            <a:off x="1003320" y="2071800"/>
            <a:ext cx="6143760" cy="4486320"/>
          </a:xfrm>
          <a:prstGeom prst="rect">
            <a:avLst/>
          </a:prstGeom>
          <a:ln w="12600">
            <a:solidFill>
              <a:srgbClr val="39536b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1-19T16:26:28Z</cp:lastPrinted>
  <dcterms:modified xsi:type="dcterms:W3CDTF">2018-09-06T00:16:05Z</dcterms:modified>
  <cp:revision>136</cp:revision>
  <dc:subject/>
  <dc:title>No Slide Title</dc:title>
</cp:coreProperties>
</file>